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111B1-98E7-4ED5-8C53-D91676131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202BE-09E0-406B-B867-6A44466AB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93B21-758C-46FF-948D-1F8A2AB5D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7FFC3-780B-41E9-ABBB-2DBCA7F88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E2644-34D2-4C3E-A575-BE2857CAC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4DDBE-4CC8-4C70-BA25-C55FBF76C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3A28B-7610-4684-BE75-E2EFD020B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2EAF3-BA1E-4E8B-97F0-F84650940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97E56-17C7-4668-A365-3E0299713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3A64C-CC71-4982-89DC-F1E9118B5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AE17D-3F68-4A30-AB70-4D290D364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074DA-A6DC-4CE5-940E-F6AC02C8D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8BEB4-FCF1-4013-A3E0-FA8C80BD33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295280" y="52574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lsea K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752480" y="609480"/>
            <a:ext cx="5715000" cy="42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NDWICH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219320" y="1447920"/>
            <a:ext cx="6781680" cy="49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HO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rcRect l="1292" t="5178" r="218" b="6733"/>
          <a:stretch/>
        </p:blipFill>
        <p:spPr>
          <a:xfrm>
            <a:off x="1676520" y="1523880"/>
            <a:ext cx="579096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952880" y="1066320"/>
            <a:ext cx="4191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rcRect l="3133" t="4548" r="0" b="0"/>
          <a:stretch/>
        </p:blipFill>
        <p:spPr>
          <a:xfrm>
            <a:off x="380880" y="228600"/>
            <a:ext cx="4710240" cy="31971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rcRect l="0" t="4429" r="0" b="0"/>
          <a:stretch/>
        </p:blipFill>
        <p:spPr>
          <a:xfrm>
            <a:off x="4114800" y="3429000"/>
            <a:ext cx="472428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ROSS PROCESSING;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RTRAI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143000" y="914400"/>
            <a:ext cx="3511440" cy="546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TER DRO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1295280"/>
            <a:ext cx="777240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OTO ESS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rcRect l="2420" t="-1023" r="1337" b="11642"/>
          <a:stretch/>
        </p:blipFill>
        <p:spPr>
          <a:xfrm>
            <a:off x="457200" y="1143000"/>
            <a:ext cx="5943600" cy="42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343040" y="609120"/>
            <a:ext cx="518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ULATION; PORTRAI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rcRect l="3855" t="1566" r="0" b="7751"/>
          <a:stretch/>
        </p:blipFill>
        <p:spPr>
          <a:xfrm>
            <a:off x="0" y="0"/>
            <a:ext cx="4419720" cy="32986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rcRect l="1560" t="1907" r="1820" b="4798"/>
          <a:stretch/>
        </p:blipFill>
        <p:spPr>
          <a:xfrm>
            <a:off x="4572000" y="3244680"/>
            <a:ext cx="4572000" cy="36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7T22:04:57Z</dcterms:created>
  <dc:creator>bal_clkern</dc:creator>
  <dc:description/>
  <dc:language>en-US</dc:language>
  <cp:lastModifiedBy>bal_clkern</cp:lastModifiedBy>
  <dcterms:modified xsi:type="dcterms:W3CDTF">2009-05-21T22:00:47Z</dcterms:modified>
  <cp:revision>4</cp:revision>
  <dc:subject/>
  <dc:title>Slide 1</dc:title>
</cp:coreProperties>
</file>